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1F46-74A2-4D9A-A9D8-C888C21F75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4D2E-D23E-439B-AA74-6CE915E5C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43C7-F487-493B-913B-2A04E5D155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BDCB-7BFF-480E-8D58-B898DC6F42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7A93-802A-4B9D-B0FC-ACEDDF7E68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F4FD-15B9-4D6D-B323-BD35B7B5D4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D7D1-B770-4DC8-B52E-41F3F889E0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2B3E-CB4A-4259-B64C-93B1ABB77C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DC49-6860-4952-A455-F07FA892F4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A809-8D49-4A9C-91A8-1670E0FE33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8E3D-BB48-4A92-81A9-CC7B1C398B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A540-72D7-4D7B-B06A-C90F8E20DB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B33B-D1DC-4C52-94A5-0F7A2BBB87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76BC-AF1A-4A7D-B324-B1611E4DDA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C3C2-F24E-4CB4-91C7-0BD6C7E418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39E2-9C20-4535-B133-4C9ACDC5E0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62F7-F402-401C-BE26-AC23D487AC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042-DBB7-4A10-86E4-F477361F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850-DAF4-4C35-AFC1-FAB047BE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51F-5FCE-48ED-A380-70B18629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5D1-D964-4A32-B641-33150D01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2032-DFB3-4038-8085-8314014A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2ACC-2CEC-475D-BB19-CB87992D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3AB8-F5DC-4C00-807B-0294F311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A435-EEFA-41FD-8B09-587441E8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334F-9B9B-4C5D-AB8F-CD810B94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F170-EEF7-4515-BBD1-9F07FCBA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E603-7DD1-4B3F-AD3B-05347A2A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15F-5A16-4CDF-9EDF-97DAA365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4C2F-CB26-449B-811C-6890BE45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4FE4-3CD1-4EBA-942E-AA5BDF0D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D0F2-875E-454C-9C80-51F0FC62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C729-18C5-499C-96C9-DE5C874A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F7B3-BECE-4908-98C5-E012A327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A8ACF-D02D-4D9F-BB38-701C643D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D69B6-8979-4684-8856-88896B08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BF835-F160-4F13-9034-67BB7788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E0FD7-7F96-4B27-82CF-02B739B5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6B4FF-FDAE-46D4-AE0C-B9E719E0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CF1-3887-42F2-AF1D-0514A70E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C48C0-FDA1-4D6B-B2A7-A1101472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2CA5-AC77-4B14-85DE-F50D5DF1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8334-A3E2-4DF1-87B7-FD01CE98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90538-A245-4E3C-82B5-92456720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D0E8-40B7-4709-A52A-E5E002C2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3883A-84A3-49D9-B539-EDD27DDE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6A571-47C6-4FE3-AD72-6482D339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D6A05-E624-4320-9562-1722F48D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85506-7B4F-4A5A-99C4-B55DFF32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A6C24-E547-4938-9D3B-D9F7654D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ED9-5D6C-4A10-A3F9-B0F45638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66A15-3B95-48AB-A000-2A63527C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B40BA-E334-4345-9F9D-4925D932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167A2-9A1C-4B2B-9039-014D613F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A2121-E455-4CF0-9031-01E24EC0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1C181-596C-49ED-BE19-2E33D197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CBAC8-9183-42DC-9600-9DCE6B2E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D48BC-B08A-41DD-96CD-36CC2DEA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7B40A-F38C-4834-82E3-0CE0D739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E48B5-2C52-458F-818E-AD6A9DA9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3251A-EBF6-46AC-9ECA-2B8BCE12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199-9362-454D-A11D-B4D0E89C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5EAF8-6243-410B-BF36-6042E11D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6A8A2-05AE-487B-900B-D0531C71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EB4E8-2ADC-4F38-AACC-94298C65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C5055-D104-447C-BE70-C71FFD3A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90A65-98AF-439C-AC12-5112075D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4E3A7-B1FD-4E89-97B3-A27CBF83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2FAA8-0A03-4957-80A4-7B21CC92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271A5-52F1-476B-AE58-12B5E817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2FE2D-0524-45B9-92CB-AFC7E9F9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6A407-02B7-4BB3-A40C-13C7DB22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0740-86B6-46DC-9D23-99884531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E721C-2FF7-4F37-8E1A-37A89945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1EA5A-F585-45B4-94EB-6525806C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DF1F3-0D16-402E-866E-0F209A60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109E4-F82E-460B-8FF9-366D1FD7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14723-9D1C-4E4A-BB25-143D04BE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44867-3719-4D4D-A158-80892F01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A5359-1FDD-413F-AF9E-C1CAF9FA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1E16B-625E-4D2B-ADAD-CC5F6352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E0230-7074-4B4A-B516-83985AB9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4C218-BB0D-4FDD-AA68-6F5BD7C6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AD50-3050-46CC-87BE-B063E481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2A881-F2C6-4FAC-9869-7CF91A50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E4F6E-4B20-467D-AD92-1C1CB17A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7F9A0-112A-41BD-817D-EA04FEAC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CC9F5-BB31-40BC-9577-C53A45BA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48FF2-5647-45AB-98C6-DDB6CFF2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B5A79-7FD6-468E-B603-DE71DE46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798C1-2578-413B-BF10-507B2C1E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238C7-B42F-4D0D-9108-C7B0C276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CE871-FAD5-4357-985D-A5391B5D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5E045-887D-4D53-B932-FD854062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268-D120-4088-9E0E-F88DCD82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32874-545C-4713-8BF4-9151934A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02B2E-FA51-4125-A450-0F04F3B7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AB6AF-F36B-44E0-9DE5-61171FC2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B346A-0B53-49AA-B05F-4D6A1BE2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B1A17-6C57-492A-B3FA-19F3CC66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280-DABE-4FDE-917F-0FC7B57F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DA4D-DF7D-49D8-A0A3-0C6280F3016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5E4D-AE00-41A1-8CF5-549C65300FA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F2FB-54D6-485D-AB9C-7EA282C0B5C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BD1B-025E-417C-8B78-BB70A1076F1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60F5-39B2-456D-BCC8-CFD7C8655F6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952A-D479-4908-B233-4E7E920F47D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B900-7D45-4B59-8B64-D3CC5FF5496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Tempus Sans ITC"/>
              </a:rPr>
              <a:t>Ethnography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2362320"/>
            <a:ext cx="7407000" cy="2209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Shahaduz Zaman Ph.D.</a:t>
            </a:r>
            <a:br>
              <a:rPr sz="2800"/>
            </a:b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Newcastle University, UK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But how to learn what to watch and listen fo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How to  move the level of ordinary looking into rigor of systematic see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Paris is the the capital of France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……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eople only see what they are       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      prepared to see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n Exerci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Important for Ethnograph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Gaining an a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aking a ro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image.slidesharecdn.com/ethnography1-100531004106-phpapp02/95/slide-3-728.jpg?1275285428"/>
          <p:cNvPicPr/>
          <p:nvPr/>
        </p:nvPicPr>
        <p:blipFill>
          <a:blip r:embed="rId1"/>
          <a:stretch/>
        </p:blipFill>
        <p:spPr>
          <a:xfrm>
            <a:off x="1066680" y="76320"/>
            <a:ext cx="7925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image.slidesharecdn.com/ethnography1-100531004106-phpapp02/95/slide-4-728.jpg?1275285428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   …………</a:t>
            </a: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n an ethnographic research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the researcher is called </a:t>
            </a: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‘Participant 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    Observer’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There are various level of 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observation</a:t>
            </a:r>
            <a:br>
              <a:rPr sz="4000"/>
            </a:b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observ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r as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ticipant as obser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Observer: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watch the situation without interacting with the day to day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participate completely in all things the people do and will not be known in the community as a research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1447920"/>
            <a:ext cx="740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Ethno (People) Graphy (describing/writing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Writing about Peopl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Participant as Observ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be fully involved in the daily activities but will take time to record observation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er as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primarily watch the situation but will also be involved in activities on a secondary ba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image.slidesharecdn.com/ethnography1-100531004106-phpapp02/95/slide-9-728.jpg?1275285428"/>
          <p:cNvPicPr/>
          <p:nvPr/>
        </p:nvPicPr>
        <p:blipFill>
          <a:blip r:embed="rId1"/>
          <a:stretch/>
        </p:blipFill>
        <p:spPr>
          <a:xfrm>
            <a:off x="1295280" y="304920"/>
            <a:ext cx="7391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Open Spa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opping m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tre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cal baza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lose 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rporate off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ligious centr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deciding about th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vel of particip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tes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ments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cus of observ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er should enter the setting and start carefully watching and liste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e is a clue to help you….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 keep six honest serving m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y taught me all I knew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ir names are What &amp; Why &amp; Wh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And How &amp; Where &amp; Who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-R. Kipling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Observation dimensions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99072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: Physical layout of the pl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Obje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 physical things that are pres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or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Ranges of people invol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ingle actions people underta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ivity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A set of related acts that occ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Time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ime of the day, dur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Goal 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ings that people are trying to accompli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Sequence: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Order of activities and it’s interrel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bserving sel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ression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coming invi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fessional Stranger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1360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Unlike interviews, in which  the researcher extracts data from the respondent, the ethnographer selects data from the naturally occurring flow of life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idea that we collect data is a bit misleading. Data are not “out there” waiting for collection, like so many rubbish bags on the pavement. For a start they have to be noticed by the researcher, and treated as data for the purpose of his or her research.” Dey (1993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ges of observ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Grand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rst wonder around the general location keeping the  focus of your study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Mini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Then observ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small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issues (space, actor, activity, objects etc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Selective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nally observe the detail aspects of the setting according to your study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Defining ethnography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the art and science of describing a group or culture. ……..The ethnographer is interested in understanding and describing a social and cultural scene from the emic or insider’s perspective. The ethnographer is both story teller and scientist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(Fetternam:1998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a method of research in which the researcher participates overtly or covertly, in people’s daily liv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tching what happe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ening to what is being sa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ing questions (Hamersley &amp; Atkinson: 200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72314"/>
                </a:solidFill>
                <a:latin typeface="Gill Sans MT"/>
              </a:rPr>
              <a:t>It is crucial to keep observation notes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Cryptic Jotting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Record key words and key phrases while in the fiel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Detailed descrip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Write full notes immediately after exiting the fiel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Analytical notes (Memo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Describe your feelings, ideas, moments of confusion, and interpretations about what is observed.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Skills of participant observant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explicit awareness of little details of lif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aintaining Naive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writing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’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nter into the world. Observe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onder. Experience and reflect. To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derstand a world you must become a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art of that world while at the same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ime remaining separate, a part of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part from.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Indian Sufi Saying 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New Styles of Ethnography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Videograph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uto eth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Net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Refer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tkinson P, Coffey A, Delamon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, Lofland J, Lofland L, eds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Handbook of ethnograph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London: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age, 200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y, Ian. 1993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Qualitative data analysis. London: Routled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etterman D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step by step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ndon: Sage, 198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ammersley M, Atkinso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principles in practic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 London: Routledge,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1995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9792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y is a methodology with more than 100 years of histor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t arose in the Western world as form of knowledge about distant cultures(typically non-Western culture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is was historically a colonial metho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anged over time: ‘Anthropology at home’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</a:rPr>
              <a:t>Malinowski in New Guinea (1916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Content Placeholder 3" descr="Malinowski.bmp"/>
          <p:cNvPicPr/>
          <p:nvPr/>
        </p:nvPicPr>
        <p:blipFill>
          <a:blip r:embed="rId1"/>
          <a:stretch/>
        </p:blipFill>
        <p:spPr>
          <a:xfrm>
            <a:off x="1905120" y="198108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Content Placeholder 3" descr="Fieldwork.bmp"/>
          <p:cNvPicPr/>
          <p:nvPr/>
        </p:nvPicPr>
        <p:blipFill>
          <a:blip r:embed="rId1"/>
          <a:stretch/>
        </p:blipFill>
        <p:spPr>
          <a:xfrm>
            <a:off x="1905120" y="16002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ic methodology gives priority to observation as it’s primary source of inform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 other words, it’s a knowledge gathering process through observ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y professional work is dependent upon the powers of observation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hy do we need to observe in ethnography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900"/>
            </a:br>
            <a:br>
              <a:rPr sz="29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ational method provide data on what people do, as well as what they say they do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It helps to get an inside view of everyday real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ves chance to learn things that people are unwilling to talk in interview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5:32Z</dcterms:created>
  <dc:creator>Neeor</dc:creator>
  <dc:description/>
  <dc:language>en-US</dc:language>
  <cp:lastModifiedBy>Zaman</cp:lastModifiedBy>
  <dcterms:modified xsi:type="dcterms:W3CDTF">2013-12-11T21:35:34Z</dcterms:modified>
  <cp:revision>96</cp:revision>
  <dc:subject/>
  <dc:title>Ethnography  Describing people in their natural setting</dc:title>
</cp:coreProperties>
</file>